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55B-2A55-4C56-AE07-0C71C93D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1F5-989F-49D9-A343-B25D4798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6ED-427D-4728-8FBE-91693C26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ADC-1722-4400-9628-A62392B7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181-8974-4AD9-9F88-58FF3C8B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DD7-8521-46D0-AEE0-EEFA59AB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D26-AFBF-4467-B9FC-18E3CE8A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AAD-D3D5-48A1-A03A-43BE5382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54B-76AE-4D04-9804-A412A7DE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37E-649B-4579-8F01-0731F8C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34B-4CAC-44E2-BFB0-7D4E937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09B-D318-4858-894E-0DC5068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8858-B1C9-43F0-B3BE-11DCFE9D4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5753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5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791320" y="380880"/>
            <a:ext cx="304776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ولود طفلِ صْغير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بكوخ مَنّو كْبير  تْرَكْتِ الغِنَى والدّور    -تْخَليّت عَنْ القصورْ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تْحَلّيْت بِمِذْوَدْ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67280" y="304920"/>
            <a:ext cx="30481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ْلَيْلة رَعْد وبَردْ         والثَلْج غَطّى الجِرْدْ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رَبِّ السَّما الموعود      -بِأرْضنا مَوْلود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وْضوع بِمِذْوَدْ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1:01:10Z</dcterms:created>
  <dc:creator>USER</dc:creator>
  <dc:description/>
  <dc:language>en-US</dc:language>
  <cp:lastModifiedBy>USER</cp:lastModifiedBy>
  <dcterms:modified xsi:type="dcterms:W3CDTF">2002-11-28T21:01:16Z</dcterms:modified>
  <cp:revision>1</cp:revision>
  <dc:subject/>
  <dc:title>PowerPoint Presentation</dc:title>
</cp:coreProperties>
</file>